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A7F-CC90-4C93-94D2-51E36D14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5A7-1F3F-4B22-9F89-B14EA19C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AAD-98E7-4736-B1C9-1A22F991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ECB-F823-474B-B48A-0559B547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83F5-C0B3-4430-AA96-73567AC4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D2F0-79E2-40CF-9353-4CDB6EB1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1CE7-40EE-44CD-956B-3D0F6079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031C-3481-441B-939D-E3E832B0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99CB-0A5B-4E7D-BFA3-41BFE404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C1C1-FECE-4568-950D-3885949F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E6E4-E8E2-4F48-A95A-E33CDAD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E9F-1A96-485E-BF99-074E1679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18C4-68C5-4AC7-82C0-E20D19BA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378E-A2A8-471D-8846-0A72B42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851E-B3F6-410C-B79B-F7EFC42D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4DCE-93FF-4CDA-B83D-969580A0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D068-3C80-42A1-9727-EFE8AAEC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D978A-04B1-4C85-B4E2-742FDBA9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647A6-991E-4125-8A3B-FED72B3A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E3F4D-D30E-4E3F-99BF-61C6F3E2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6FDE2-5AD2-4F61-A933-C3617E91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B9996-5367-4F15-8A61-B743A176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B8C-06B9-4B5E-A955-9F4A7809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2C7EB-833B-4CCD-91A5-DC3FAABF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69677-BE2B-4130-B586-7C4894D1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F1E9A-A5A4-4585-8A35-694951B0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E5BEF-4D55-4984-9CA7-90E1BCC5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3652E-D880-47E2-BF33-273D3B81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5C808-6A5C-4E15-8C96-308E64FD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3F460-BFA5-421E-8A51-6E50DCC6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28A6-8714-4B12-B652-EDD34132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51A3F-B4FA-48C8-BE1B-29D6AF57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09144-7726-4D7E-AFB0-506A1927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B90-935C-465D-B991-C8A2EF9A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1D19-1033-430F-8FDE-5CA2ECE2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9092-4AF8-4ABF-A35E-8923AE87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F94F-328F-4DD8-8FCC-54953194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1367-315A-4D45-9ADE-0309A8BC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78840-20E6-4223-A9A5-D3F64FE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503BB-83DE-4287-83DB-227F548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85232-05C8-4E17-85B8-1C7C33C6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E130-7935-48E0-A79B-785F58C6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70D8-A6DA-4682-BF22-63769B95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55D31-660C-4A46-A8CA-2BD7048E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C10-EE85-43D0-AA03-E9F47CF8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8B02F-EE4E-428B-B5F6-DCFE806A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427BB-2DA1-49A7-8FA6-9A8AE9EF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BD6B8-DC31-4C4D-96DC-13B44F2A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6C3F0-DA84-428A-9F3A-EC6638A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9D4D9-6C0F-4FB4-866E-D5E82FB0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38347-50D7-4242-9AC9-AAA182C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A7DFD-8FAF-4128-ABA9-E2D750F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F9935-D96D-473D-B111-83F6B9DE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D3253-B1A3-453C-891C-63E5CAF8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B8E36-17BF-4095-8612-9F70C199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468-C3F4-4AC8-81B3-22F92D18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E54EC-2FEC-4015-BF0F-5B4E85F7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ECF9A-5D52-47D5-ACAC-2CCB4B9A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127B8-562B-40B6-ACC9-3029A678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9001A-4D0B-47E3-8AB5-E8442DD5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92C65-3BFC-4698-8F11-1DDB0063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87D96-FA02-4692-AF75-C8E06047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A4DAD-E33B-4BE2-A6E0-5565F2ED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5A5E8-7296-4851-AD72-F8F6B25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E96A3-9ED4-4919-ADFC-B707AF3C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88BA3-EFA4-44AE-A20A-E9611121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DB7-85FF-4F23-84E0-3AA88A5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F0835-B045-45B1-813E-30D4F8F0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6DA46-4037-46A6-B6C9-954ED6DA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0F69B-91C0-4106-958C-6527E423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65F4B-353D-4F56-90C3-A68E2895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6EE81-4E96-42F5-BF0C-43185131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BAF16-4007-4597-B1AD-09C58637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FB490-03E4-4DD4-91D0-B104B3A3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72911-7761-4A37-A8C6-1657A4CB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E4B33-18A5-4F77-A948-19EA9AB7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A6B2D-C6A2-44A7-A706-2D6474DC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844-962C-4420-B229-28383847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06C4A-9DBD-4AFB-9F40-5E8DE7F2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23920-B4EC-4667-951A-C45F892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2D709-5012-44E3-B077-3BDCF82E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0A92B-92BD-441B-8EE5-E56C654E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8DE03-BA15-4F7B-960F-6F199815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FE6-ADAA-4B02-AFE4-89FBB82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EC11-7009-4E34-8D16-65109C7E60A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8CE9-C88F-4C81-BCB5-28C101B4CB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874E-A60C-4EB3-84C9-072728BB4DA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D7C2-5D16-4616-A859-3B43A34495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3993-D3A8-4197-8408-310F7DE1B0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8DD6-D843-49A6-94F6-E7BE1F3BEE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47D6-6654-414E-A33D-AB9D7F0733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228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АВТОНОМНОЕ ДОШКОЛЬНОЕ ОБРАЗОВАТЕЛЬНОЕ УЧРЕЖДЕНИЕ «ДЕТСКИЙ САД КОМБИНИРОВАННОГО ВИДА № 50 «ТОПОЛЁК»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БАЛАКОВО САРАТОВСКОЙ ОБЛАСТИ</a:t>
            </a:r>
            <a:br>
              <a:rPr sz="1200"/>
            </a:br>
            <a:r>
              <a:rPr b="1" lang="ru-RU" sz="1200" spc="-1" strike="noStrike">
                <a:solidFill>
                  <a:srgbClr val="575f6d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8000" y="907920"/>
            <a:ext cx="89280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иды и формы деятельности при решении воспитателем задач в экологическом воспитании дошкольник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дготовили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Никиташина Марина Александров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Воспитатель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Крипиневич Ирина Игорев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Воспитатель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24000" y="260280"/>
            <a:ext cx="84247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шему детскому саду повезло с месторасположением. Через дорогу будет находится Парк культуры и отдыха города, что позволит проводить экскурсии экологической направлен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бята могут посетить парк, находящийся около реки Сазанлей, парк «Памяти жертвам Чернобыля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Рисунок 5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518508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50560" y="404280"/>
            <a:ext cx="828180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экскурсиях дошкольники получают возможность непосредственно знакомиться со свойствами и качествами предметов, явлений путем наблюдений, в ходе выполнения заданий игрового или практического характе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3" descr=""/>
          <p:cNvPicPr/>
          <p:nvPr/>
        </p:nvPicPr>
        <p:blipFill>
          <a:blip r:embed="rId1"/>
          <a:stretch/>
        </p:blipFill>
        <p:spPr>
          <a:xfrm>
            <a:off x="792000" y="2852640"/>
            <a:ext cx="3635640" cy="305604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4" descr=""/>
          <p:cNvPicPr/>
          <p:nvPr/>
        </p:nvPicPr>
        <p:blipFill>
          <a:blip r:embed="rId2"/>
          <a:stretch/>
        </p:blipFill>
        <p:spPr>
          <a:xfrm>
            <a:off x="4803840" y="2852640"/>
            <a:ext cx="3714840" cy="305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07640" y="189000"/>
            <a:ext cx="856764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курсии и походы направленны на укрепление  здоровья детей за счет длительного пребывания на свежем воздухе. Эмоции, возникающие при непосредственном соприкосновении с красотой природных объектов, несут радость, наслажд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1738440" y="2276640"/>
            <a:ext cx="5580000" cy="41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3" descr=""/>
          <p:cNvPicPr/>
          <p:nvPr/>
        </p:nvPicPr>
        <p:blipFill>
          <a:blip r:embed="rId1"/>
          <a:stretch/>
        </p:blipFill>
        <p:spPr>
          <a:xfrm>
            <a:off x="1835280" y="3454560"/>
            <a:ext cx="4752720" cy="3240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78000" y="115920"/>
            <a:ext cx="8442000" cy="65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 счет включения в процесс экологического воспитания походы, экскурсии облегчается решение следующих зада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  у   детей   стремления   к   познанию   окружающего   ми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комление с природой родного края через объекты ближайшего окружения, воспитание любви и бережного отношения к н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4000" y="404280"/>
            <a:ext cx="820872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физических качеств и привычки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навыков поведения в природе, заботы о природе и её обитателя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ширение знаний детей о значении каждого объекта природ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Рисунок 4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219640" cy="3508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765000"/>
            <a:ext cx="746748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260280"/>
            <a:ext cx="81471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ответствии с Законом РФ «Об образовании», одной из основных задач образования является формирование духовно-нравственной личности. Духовно- нравственное воспитание детей - это и любовь к родным местам, малой Родине, гордость за свой народ, ощущение своей неразрывности с окружающим миром, желание сохранять и приумножить богатство своей страны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ологическое воспитание дошкольников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это непрерывный процесс воспитания и развития детей, направленный не только на расширение знаний в данной области, но и на формирование культуры поведения в природе, к соблюдению норм и правил поведения по отношению к н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4920" y="189000"/>
            <a:ext cx="820908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Цели и задачи экологического воспитания детей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комление с природой и природными явления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умения устанавливать причинно-следственные связи между природными явления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первичных представлений о природном многообразии планеты Земл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понимания того, что человек - часть природы, что он должен беречь, охранять и защищать ее, что в природе все взаимосвязано, что жизнь человека на Земле во многом зависит от окружающей сре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ние умения правильно вести себя в природе, любить природу и беречь е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95280" y="18900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познавательных интересов детей, развитие любознательности и познавательной мотив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восприятия, внимания, памяти, наблюдательности, способности анализировать, сравнивать, выделять характерные, существенные признаки предметов и явлений окружающего мира; умения устанавливать простейшие связи между предметами и явлениями, делать простейшие обобщ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3059280" y="3627360"/>
            <a:ext cx="299700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24000" y="260280"/>
            <a:ext cx="82087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ологический туризм даёт возможность формировать у дошкольников осознанно - правильное отношение к природе, природным явлениям. Дети получают новую информацию о живой и неживой природе, её представителях, знакомятся с народными приметами, литературными произведениями, через которые познают красоту окружающего мира, выполняют различные трудовые поручения, что даёт возможность понять меру собственной ответственности за сохранение и улучшение жизни растений и животных, необходимость бережного отношения ко всему живому, пониманию того, что человек – часть приро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23640" y="189000"/>
            <a:ext cx="828036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кскурси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один из видов занятий и основная форма организации работы по экологическому воспитанию дошкольников. Это своего рода занятия под открытым неб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Рисунок 3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02136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333000"/>
            <a:ext cx="814716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экскурсиях дети знакомятся с растениями, животными и условиями их обитания, а это способствует образованию первичных представлений о взаимосвязях в природе. Экскурсии способствуют развитию наблюдательности, возникновению интереса к природ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Рисунок 3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83272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6:51:56Z</dcterms:created>
  <dc:creator>Минеева А.В.</dc:creator>
  <dc:description/>
  <dc:language>en-US</dc:language>
  <cp:lastModifiedBy>Admin</cp:lastModifiedBy>
  <dcterms:modified xsi:type="dcterms:W3CDTF">2022-02-26T08:31:18Z</dcterms:modified>
  <cp:revision>231</cp:revision>
  <dc:subject/>
  <dc:title>Нуклеиновые кислоты. ДНК</dc:title>
</cp:coreProperties>
</file>